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3F72-715D-492B-BF48-7E1C9309F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42A8-6363-4CA3-8257-5ADF19764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3BB4-BD9E-4924-9C0A-A3D0CAC8F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7469-D3D6-4BA4-9AF9-201AA79E1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5F37-9872-4D75-B43C-54EF6C0F9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727B-D09D-488C-A0A4-17C844E09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2703-4048-4D8B-A4C9-96010F485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36F3-ABCD-41B4-ABAD-06360F8D3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1740-83A8-4923-B0E8-A448435F7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343B-2150-4B4A-B891-2C0501C0F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14FD-5A6B-4710-BD53-DFFFEEE34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09F0-5859-4DC3-BA1F-3F29C4890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23B5-CF24-410B-B0EC-5EFF2B9DC953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650960" y="6521400"/>
            <a:ext cx="7150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MCN workshop, ISWC, 8</a:t>
            </a:r>
            <a:r>
              <a:rPr b="1" lang="it-IT" sz="1500" spc="-1" strike="noStrike" baseline="30000">
                <a:solidFill>
                  <a:srgbClr val="008484"/>
                </a:solidFill>
                <a:latin typeface="Arial"/>
              </a:rPr>
              <a:t>th</a:t>
            </a: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 November 2004, Hiroshima, Jap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6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60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59000"/>
            <a:ext cx="5854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0"/>
            <a:ext cx="0" cy="1359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63760" y="5492880"/>
            <a:ext cx="0" cy="1365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3760" y="5486400"/>
            <a:ext cx="5880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080" y="1850760"/>
            <a:ext cx="8126280" cy="19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Element Level Semantic Matching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67160" y="371772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avel Shvai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6240" y="5530680"/>
            <a:ext cx="5614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Meaning Coordination and Negotiation Workshop, ISW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8</a:t>
            </a:r>
            <a:r>
              <a:rPr b="1" lang="it-IT" sz="1600" spc="-1" strike="noStrike" baseline="30000">
                <a:solidFill>
                  <a:srgbClr val="008484"/>
                </a:solidFill>
                <a:latin typeface="Arial"/>
              </a:rPr>
              <a:t>th</a:t>
            </a: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 November 2004, Hiroshima,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479760"/>
            <a:ext cx="118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46240" y="469908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Paper by Fausto Giunchiglia and Mikalai Yatskev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1: compute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3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Translate natural language expressions into internal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rmal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language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Compute concepts based on possible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sens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of words in a label and their interrelations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rocessing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okenization.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Labels (according to punctuation, spaces, etc.) are parsed into token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Wine and Chees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&lt;wine, and, cheese&gt;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mmatization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 Tokens are morphologically analyzed in order to find all their possible basic form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imag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imag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Building atomic concepts.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An oracle (WordNet) is used to extract senses of lemmatized token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Image has 8 senses, 7 as a noun and 1 as a verb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Building complex concept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. Prepositions, conjunctions, etc. are translated into logical connectives and used to build complex concepts</a:t>
            </a:r>
            <a:br>
              <a:rPr sz="1600"/>
            </a:b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out of the atomic concepts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E.g.,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C</a:t>
            </a:r>
            <a:r>
              <a:rPr b="0" i="1" lang="en-US" sz="16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Wine and Cheese</a:t>
            </a:r>
            <a:r>
              <a:rPr b="0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=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&lt;Wine, U(WN</a:t>
            </a:r>
            <a:r>
              <a:rPr b="1" lang="en-US" sz="16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Win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)&gt;     &lt;Cheese, U(WN</a:t>
            </a:r>
            <a:r>
              <a:rPr b="1" lang="en-US" sz="16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Chees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)&gt;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where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U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is a union of the senses that WordNet attaches to lemmatized tokens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968360" y="5537160"/>
            <a:ext cx="176760" cy="187560"/>
            <a:chOff x="4968360" y="5537160"/>
            <a:chExt cx="176760" cy="187560"/>
          </a:xfrm>
        </p:grpSpPr>
        <p:sp>
          <p:nvSpPr>
            <p:cNvPr id="216" name=""/>
            <p:cNvSpPr/>
            <p:nvPr/>
          </p:nvSpPr>
          <p:spPr>
            <a:xfrm flipV="1">
              <a:off x="5145120" y="5537160"/>
              <a:ext cx="0" cy="18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968720" y="5537160"/>
              <a:ext cx="0" cy="18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8" name=""/>
            <p:cNvCxnSpPr>
              <a:stCxn id="216" idx="0"/>
              <a:endCxn id="217" idx="0"/>
            </p:cNvCxnSpPr>
            <p:nvPr/>
          </p:nvCxnSpPr>
          <p:spPr>
            <a:xfrm flipH="1" flipV="1">
              <a:off x="4968360" y="5724000"/>
              <a:ext cx="177120" cy="1080"/>
            </a:xfrm>
            <a:prstGeom prst="straightConnector1">
              <a:avLst/>
            </a:prstGeom>
            <a:ln w="25560">
              <a:solidFill>
                <a:srgbClr val="80808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910C-F560-460D-86D1-3247B20BBF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2: c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mpute concepts at nod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6436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extend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by capturing the knowledge residing in a structure of a graph in order to define a context in which the given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 at a label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occurs</a:t>
            </a:r>
            <a:endParaRPr b="1" lang="en-US" sz="19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Computation: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1900" spc="-1" strike="noStrike">
                <a:solidFill>
                  <a:srgbClr val="800000"/>
                </a:solidFill>
                <a:latin typeface="Arial"/>
              </a:rPr>
              <a:t>Concept at a node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for some node </a:t>
            </a:r>
            <a:r>
              <a:rPr b="1" i="1" lang="it-IT" sz="1900" spc="-1" strike="noStrike">
                <a:solidFill>
                  <a:srgbClr val="008484"/>
                </a:solidFill>
                <a:latin typeface="Arial"/>
              </a:rPr>
              <a:t>n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is computed as a conjunction of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located above the given node, including the node itself</a:t>
            </a:r>
            <a:endParaRPr b="1" lang="en-US" sz="19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06600" y="3424320"/>
            <a:ext cx="5543640" cy="2328840"/>
            <a:chOff x="2406600" y="3424320"/>
            <a:chExt cx="5543640" cy="2328840"/>
          </a:xfrm>
        </p:grpSpPr>
        <p:sp>
          <p:nvSpPr>
            <p:cNvPr id="222" name=""/>
            <p:cNvSpPr/>
            <p:nvPr/>
          </p:nvSpPr>
          <p:spPr>
            <a:xfrm>
              <a:off x="5283360" y="43448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Wine and Che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406600" y="3424320"/>
              <a:ext cx="4081320" cy="2328840"/>
              <a:chOff x="2406600" y="3424320"/>
              <a:chExt cx="4081320" cy="2328840"/>
            </a:xfrm>
          </p:grpSpPr>
          <p:sp>
            <p:nvSpPr>
              <p:cNvPr id="224" name=""/>
              <p:cNvSpPr/>
              <p:nvPr/>
            </p:nvSpPr>
            <p:spPr>
              <a:xfrm>
                <a:off x="2606400" y="5354280"/>
                <a:ext cx="179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71640" y="3424320"/>
                <a:ext cx="169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6" name=""/>
              <p:cNvCxnSpPr>
                <a:stCxn id="227" idx="4"/>
                <a:endCxn id="228" idx="0"/>
              </p:cNvCxnSpPr>
              <p:nvPr/>
            </p:nvCxnSpPr>
            <p:spPr>
              <a:xfrm>
                <a:off x="3904560" y="4670280"/>
                <a:ext cx="1080" cy="600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9" name=""/>
              <p:cNvCxnSpPr>
                <a:stCxn id="230" idx="4"/>
                <a:endCxn id="227" idx="0"/>
              </p:cNvCxnSpPr>
              <p:nvPr/>
            </p:nvCxnSpPr>
            <p:spPr>
              <a:xfrm flipH="1">
                <a:off x="3904200" y="4025160"/>
                <a:ext cx="605880" cy="402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1" name=""/>
              <p:cNvSpPr/>
              <p:nvPr/>
            </p:nvSpPr>
            <p:spPr>
              <a:xfrm>
                <a:off x="4859280" y="5308200"/>
                <a:ext cx="162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2" name=""/>
              <p:cNvCxnSpPr>
                <a:stCxn id="233" idx="4"/>
                <a:endCxn id="234" idx="0"/>
              </p:cNvCxnSpPr>
              <p:nvPr/>
            </p:nvCxnSpPr>
            <p:spPr>
              <a:xfrm>
                <a:off x="5171760" y="4670280"/>
                <a:ext cx="13680" cy="600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/>
              <p:nvPr/>
            </p:nvSpPr>
            <p:spPr>
              <a:xfrm>
                <a:off x="2406600" y="4344840"/>
                <a:ext cx="161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Pic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6" name=""/>
              <p:cNvCxnSpPr>
                <a:stCxn id="230" idx="4"/>
                <a:endCxn id="233" idx="0"/>
              </p:cNvCxnSpPr>
              <p:nvPr/>
            </p:nvCxnSpPr>
            <p:spPr>
              <a:xfrm>
                <a:off x="4510080" y="4025160"/>
                <a:ext cx="662400" cy="402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0" name=""/>
              <p:cNvSpPr/>
              <p:nvPr/>
            </p:nvSpPr>
            <p:spPr>
              <a:xfrm>
                <a:off x="4387680" y="3782880"/>
                <a:ext cx="24300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84320" y="4427280"/>
                <a:ext cx="241560" cy="24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51160" y="4427280"/>
                <a:ext cx="241560" cy="24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84320" y="5270400"/>
                <a:ext cx="24156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62320" y="5270400"/>
                <a:ext cx="24300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1117440" y="5969160"/>
            <a:ext cx="6286680" cy="475200"/>
            <a:chOff x="1117440" y="5969160"/>
            <a:chExt cx="6286680" cy="475200"/>
          </a:xfrm>
        </p:grpSpPr>
        <p:sp>
          <p:nvSpPr>
            <p:cNvPr id="238" name=""/>
            <p:cNvSpPr/>
            <p:nvPr/>
          </p:nvSpPr>
          <p:spPr>
            <a:xfrm>
              <a:off x="1117440" y="5969160"/>
              <a:ext cx="62866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800000"/>
                  </a:solidFill>
                  <a:latin typeface="Arial"/>
                </a:rPr>
                <a:t>    </a:t>
              </a:r>
              <a:r>
                <a:rPr b="1" i="1" lang="it-IT" sz="2200" spc="-1" strike="noStrike">
                  <a:solidFill>
                    <a:srgbClr val="800000"/>
                  </a:solidFill>
                  <a:latin typeface="Arial"/>
                </a:rPr>
                <a:t>C</a:t>
              </a:r>
              <a:r>
                <a:rPr b="1" i="1" lang="it-IT" sz="2200" spc="-1" strike="noStrike" baseline="-25000">
                  <a:solidFill>
                    <a:srgbClr val="800000"/>
                  </a:solidFill>
                  <a:latin typeface="Arial"/>
                </a:rPr>
                <a:t>4</a:t>
              </a:r>
              <a:r>
                <a:rPr b="1" lang="it-IT" sz="2200" spc="-1" strike="noStrike" baseline="-25000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2200" spc="-1" strike="noStrike">
                  <a:solidFill>
                    <a:srgbClr val="777777"/>
                  </a:solidFill>
                  <a:latin typeface="Arial"/>
                </a:rPr>
                <a:t>= 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Europe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      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Pictures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      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Ita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074760" y="6108480"/>
              <a:ext cx="1492560" cy="211320"/>
              <a:chOff x="3074760" y="6108480"/>
              <a:chExt cx="1492560" cy="2113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3074760" y="6108480"/>
                <a:ext cx="227160" cy="211320"/>
                <a:chOff x="3074760" y="6108480"/>
                <a:chExt cx="227160" cy="211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0747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3015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43" name=""/>
                <p:cNvCxnSpPr>
                  <a:stCxn id="241" idx="0"/>
                  <a:endCxn id="242" idx="0"/>
                </p:cNvCxnSpPr>
                <p:nvPr/>
              </p:nvCxnSpPr>
              <p:spPr>
                <a:xfrm>
                  <a:off x="3074760" y="6108480"/>
                  <a:ext cx="22752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  <p:grpSp>
            <p:nvGrpSpPr>
              <p:cNvPr id="244" name=""/>
              <p:cNvGrpSpPr/>
              <p:nvPr/>
            </p:nvGrpSpPr>
            <p:grpSpPr>
              <a:xfrm>
                <a:off x="4340160" y="6108480"/>
                <a:ext cx="227160" cy="211320"/>
                <a:chOff x="4340160" y="6108480"/>
                <a:chExt cx="227160" cy="211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43401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5669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47" name=""/>
                <p:cNvCxnSpPr>
                  <a:stCxn id="245" idx="0"/>
                  <a:endCxn id="246" idx="0"/>
                </p:cNvCxnSpPr>
                <p:nvPr/>
              </p:nvCxnSpPr>
              <p:spPr>
                <a:xfrm>
                  <a:off x="4340160" y="6108480"/>
                  <a:ext cx="22752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A834-6562-4D8F-A36E-62AE80B46C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5280" y="1015560"/>
            <a:ext cx="7035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ep 3: compute relations between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67920" y="1587600"/>
            <a:ext cx="87757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Exploit a priori knowledge,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e.g., lexical, domain knowledge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ith the help of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element level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emantic matchers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Results of step 3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60" y="13849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500120"/>
            <a:ext cx="6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500120"/>
            <a:ext cx="72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500120"/>
            <a:ext cx="72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4368960"/>
            <a:ext cx="9360" cy="9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172040" y="1512720"/>
            <a:ext cx="4971960" cy="2030760"/>
            <a:chOff x="4172040" y="1512720"/>
            <a:chExt cx="4971960" cy="2030760"/>
          </a:xfrm>
        </p:grpSpPr>
        <p:sp>
          <p:nvSpPr>
            <p:cNvPr id="257" name=""/>
            <p:cNvSpPr/>
            <p:nvPr/>
          </p:nvSpPr>
          <p:spPr>
            <a:xfrm>
              <a:off x="6432480" y="3267000"/>
              <a:ext cx="12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70840" y="1863720"/>
              <a:ext cx="117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60" idx="4"/>
              <a:endCxn id="261" idx="0"/>
            </p:cNvCxnSpPr>
            <p:nvPr/>
          </p:nvCxnSpPr>
          <p:spPr>
            <a:xfrm>
              <a:off x="7332480" y="2768400"/>
              <a:ext cx="1080" cy="437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63" idx="4"/>
              <a:endCxn id="260" idx="0"/>
            </p:cNvCxnSpPr>
            <p:nvPr/>
          </p:nvCxnSpPr>
          <p:spPr>
            <a:xfrm flipH="1">
              <a:off x="7332480" y="2300040"/>
              <a:ext cx="419760" cy="291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" name=""/>
            <p:cNvSpPr/>
            <p:nvPr/>
          </p:nvSpPr>
          <p:spPr>
            <a:xfrm>
              <a:off x="8228520" y="2448000"/>
              <a:ext cx="91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Wine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Chee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96320" y="3233880"/>
              <a:ext cx="113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6" name=""/>
            <p:cNvCxnSpPr>
              <a:stCxn id="267" idx="4"/>
              <a:endCxn id="268" idx="0"/>
            </p:cNvCxnSpPr>
            <p:nvPr/>
          </p:nvCxnSpPr>
          <p:spPr>
            <a:xfrm>
              <a:off x="8212320" y="2768400"/>
              <a:ext cx="8640" cy="437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6292440" y="2531520"/>
              <a:ext cx="112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Pic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4"/>
              <a:endCxn id="267" idx="0"/>
            </p:cNvCxnSpPr>
            <p:nvPr/>
          </p:nvCxnSpPr>
          <p:spPr>
            <a:xfrm>
              <a:off x="7751880" y="2300040"/>
              <a:ext cx="460440" cy="291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7667640" y="212400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48240" y="259200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27720" y="259200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48240" y="320544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35640" y="32054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6560" y="254988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" name=""/>
            <p:cNvCxnSpPr>
              <a:stCxn id="273" idx="4"/>
              <a:endCxn id="274" idx="0"/>
            </p:cNvCxnSpPr>
            <p:nvPr/>
          </p:nvCxnSpPr>
          <p:spPr>
            <a:xfrm flipH="1">
              <a:off x="5211720" y="2752560"/>
              <a:ext cx="420120" cy="51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108840" y="312804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2040" y="320976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73" idx="4"/>
              <a:endCxn id="278" idx="0"/>
            </p:cNvCxnSpPr>
            <p:nvPr/>
          </p:nvCxnSpPr>
          <p:spPr>
            <a:xfrm>
              <a:off x="5632200" y="2752560"/>
              <a:ext cx="460080" cy="51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"/>
            <p:cNvSpPr/>
            <p:nvPr/>
          </p:nvSpPr>
          <p:spPr>
            <a:xfrm>
              <a:off x="5547240" y="257616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27840" y="32702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06960" y="32702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80" idx="4"/>
              <a:endCxn id="273" idx="0"/>
            </p:cNvCxnSpPr>
            <p:nvPr/>
          </p:nvCxnSpPr>
          <p:spPr>
            <a:xfrm flipH="1">
              <a:off x="5631840" y="2324520"/>
              <a:ext cx="8640" cy="251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5555160" y="214812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11720" y="1866600"/>
              <a:ext cx="91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m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11720" y="1512720"/>
              <a:ext cx="91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91800" y="1512720"/>
              <a:ext cx="91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56840" y="3862080"/>
            <a:ext cx="8229960" cy="2157840"/>
            <a:chOff x="456840" y="3862080"/>
            <a:chExt cx="8229960" cy="2157840"/>
          </a:xfrm>
        </p:grpSpPr>
        <p:grpSp>
          <p:nvGrpSpPr>
            <p:cNvPr id="285" name=""/>
            <p:cNvGrpSpPr/>
            <p:nvPr/>
          </p:nvGrpSpPr>
          <p:grpSpPr>
            <a:xfrm>
              <a:off x="456840" y="3862080"/>
              <a:ext cx="8229960" cy="2157480"/>
              <a:chOff x="456840" y="3862080"/>
              <a:chExt cx="8229960" cy="215748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456840" y="3862080"/>
                <a:ext cx="8229960" cy="2157480"/>
                <a:chOff x="456840" y="3862080"/>
                <a:chExt cx="8229960" cy="215748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457200" y="3862440"/>
                  <a:ext cx="8229600" cy="2157120"/>
                  <a:chOff x="457200" y="3862440"/>
                  <a:chExt cx="8229600" cy="21571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1282680" y="3862440"/>
                    <a:ext cx="85572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500" spc="-1" strike="noStrike">
                        <a:solidFill>
                          <a:srgbClr val="008484"/>
                        </a:solidFill>
                        <a:latin typeface="Arial"/>
                      </a:rPr>
                      <a:t>T2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466040" y="5611680"/>
                    <a:ext cx="12207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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292800" y="5611680"/>
                    <a:ext cx="117324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4754520" y="5611680"/>
                    <a:ext cx="153828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533760" y="5611680"/>
                    <a:ext cx="12207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138400" y="5611680"/>
                    <a:ext cx="13953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57200" y="5611680"/>
                    <a:ext cx="1681200" cy="407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tal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466040" y="5173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292800" y="5173560"/>
                    <a:ext cx="117324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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4754520" y="5173560"/>
                    <a:ext cx="153828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533760" y="5173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138400" y="5173560"/>
                    <a:ext cx="13953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457200" y="5173560"/>
                    <a:ext cx="168120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Austri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466040" y="4738680"/>
                    <a:ext cx="12207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292800" y="4738680"/>
                    <a:ext cx="117324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754520" y="4738680"/>
                    <a:ext cx="153828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533760" y="4738680"/>
                    <a:ext cx="12207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138400" y="4738680"/>
                    <a:ext cx="13953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57200" y="4738680"/>
                    <a:ext cx="1681200" cy="434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Euro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466040" y="4300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292800" y="4300560"/>
                    <a:ext cx="117324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4754520" y="4300560"/>
                    <a:ext cx="153828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533760" y="4300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38400" y="4300560"/>
                    <a:ext cx="13953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57200" y="4300560"/>
                    <a:ext cx="168120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fr-FR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fr-FR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mage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466040" y="3862440"/>
                    <a:ext cx="12207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Austri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292800" y="3862440"/>
                    <a:ext cx="117324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tal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754520" y="3862440"/>
                    <a:ext cx="153828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533760" y="3862440"/>
                    <a:ext cx="12207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Picture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38400" y="3862440"/>
                    <a:ext cx="13953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539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Euro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457200" y="3862440"/>
                    <a:ext cx="82548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500" spc="-1" strike="noStrike">
                        <a:solidFill>
                          <a:srgbClr val="008484"/>
                        </a:solidFill>
                        <a:latin typeface="Arial"/>
                      </a:rPr>
                      <a:t>T1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57200" y="386244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57200" y="60195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572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86868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57200" y="43005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1384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53376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75452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2928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46604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57200" y="473868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57200" y="51735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57200" y="561168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456840" y="3862080"/>
                  <a:ext cx="7645680" cy="2078280"/>
                  <a:chOff x="456840" y="3862080"/>
                  <a:chExt cx="7645680" cy="2078280"/>
                </a:xfrm>
              </p:grpSpPr>
              <p:cxnSp>
                <p:nvCxnSpPr>
                  <p:cNvPr id="333" name=""/>
                  <p:cNvCxnSpPr/>
                  <p:nvPr/>
                </p:nvCxnSpPr>
                <p:spPr>
                  <a:xfrm>
                    <a:off x="456840" y="3862080"/>
                    <a:ext cx="1685160" cy="432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719080" y="4863960"/>
                    <a:ext cx="5383440" cy="1076400"/>
                    <a:chOff x="2719080" y="4863960"/>
                    <a:chExt cx="5383440" cy="1076400"/>
                  </a:xfrm>
                </p:grpSpPr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92840" y="4878360"/>
                      <a:ext cx="149400" cy="19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942320" y="4863960"/>
                      <a:ext cx="160200" cy="20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flipH="1">
                      <a:off x="2719080" y="5279760"/>
                      <a:ext cx="181080" cy="2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flipH="1">
                      <a:off x="2719080" y="5726160"/>
                      <a:ext cx="18108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sp>
            <p:nvSpPr>
              <p:cNvPr id="339" name=""/>
              <p:cNvSpPr/>
              <p:nvPr/>
            </p:nvSpPr>
            <p:spPr>
              <a:xfrm>
                <a:off x="4826160" y="3924360"/>
                <a:ext cx="60948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r>
                  <a:rPr b="1" i="1" lang="it-IT" sz="1500" spc="-1" strike="noStrike" baseline="-25000">
                    <a:solidFill>
                      <a:srgbClr val="000099"/>
                    </a:solidFill>
                    <a:latin typeface="Times New Roman"/>
                  </a:rPr>
                  <a:t>Win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75320" y="3936960"/>
                <a:ext cx="73656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r>
                  <a:rPr b="1" i="1" lang="it-IT" sz="1500" spc="-1" strike="noStrike" baseline="-25000">
                    <a:solidFill>
                      <a:srgbClr val="000099"/>
                    </a:solidFill>
                    <a:latin typeface="Times New Roman"/>
                  </a:rPr>
                  <a:t>Chees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11960" y="3873600"/>
              <a:ext cx="0" cy="21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3898-E5A8-40B3-918F-42AF8C5EF9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82320" y="982440"/>
            <a:ext cx="7162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4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mpute relations between concepts at nod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28120" y="4241880"/>
            <a:ext cx="84632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axioms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(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ext</a:t>
            </a:r>
            <a:r>
              <a:rPr b="1" lang="it-IT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A</a:t>
            </a:r>
            <a:r>
              <a:rPr b="1" lang="it-IT" sz="18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, 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ext</a:t>
            </a:r>
            <a:r>
              <a:rPr b="1" lang="it-IT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B</a:t>
            </a:r>
            <a:r>
              <a:rPr b="1" lang="it-IT" sz="18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j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)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propositional formula is valid iff its negation is unsatisfiable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1562040"/>
            <a:ext cx="806436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1900" spc="-1" strike="noStrike">
                <a:solidFill>
                  <a:srgbClr val="008484"/>
                </a:solidFill>
                <a:latin typeface="Arial"/>
              </a:rPr>
              <a:t> Reduce the matching problem to a validity problem</a:t>
            </a: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We take the relations between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 computed in step 3 as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axioms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 for reasoning about relations between 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868400" y="2732040"/>
            <a:ext cx="3333960" cy="368280"/>
            <a:chOff x="1868400" y="2732040"/>
            <a:chExt cx="3333960" cy="368280"/>
          </a:xfrm>
        </p:grpSpPr>
        <p:sp>
          <p:nvSpPr>
            <p:cNvPr id="346" name=""/>
            <p:cNvSpPr/>
            <p:nvPr/>
          </p:nvSpPr>
          <p:spPr>
            <a:xfrm>
              <a:off x="1868400" y="273204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re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{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,     , 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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}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2944800" y="2863800"/>
              <a:ext cx="108000" cy="131760"/>
              <a:chOff x="2944800" y="2863800"/>
              <a:chExt cx="108000" cy="1317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944800" y="2863800"/>
                <a:ext cx="107640" cy="103680"/>
                <a:chOff x="2944800" y="2863800"/>
                <a:chExt cx="107640" cy="103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946960" y="2967480"/>
                  <a:ext cx="1051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44800" y="2863800"/>
                  <a:ext cx="1072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052080" y="286380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2944800" y="2995560"/>
                <a:ext cx="1080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336480" y="2865240"/>
              <a:ext cx="109800" cy="131760"/>
              <a:chOff x="3336480" y="2865240"/>
              <a:chExt cx="109800" cy="13176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3336840" y="2865240"/>
                <a:ext cx="109440" cy="103680"/>
                <a:chOff x="3336840" y="2865240"/>
                <a:chExt cx="109440" cy="103680"/>
              </a:xfrm>
            </p:grpSpPr>
            <p:sp>
              <p:nvSpPr>
                <p:cNvPr id="355" name=""/>
                <p:cNvSpPr/>
                <p:nvPr/>
              </p:nvSpPr>
              <p:spPr>
                <a:xfrm flipH="1">
                  <a:off x="3337200" y="2865240"/>
                  <a:ext cx="1069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3337200" y="2968920"/>
                  <a:ext cx="1090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3336840" y="287028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 flipH="1">
                <a:off x="3336480" y="2997000"/>
                <a:ext cx="1098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020840" y="2854440"/>
              <a:ext cx="112680" cy="145440"/>
              <a:chOff x="4020840" y="2854440"/>
              <a:chExt cx="112680" cy="145440"/>
            </a:xfrm>
          </p:grpSpPr>
          <p:sp>
            <p:nvSpPr>
              <p:cNvPr id="360" name=""/>
              <p:cNvSpPr/>
              <p:nvPr/>
            </p:nvSpPr>
            <p:spPr>
              <a:xfrm flipV="1">
                <a:off x="4133520" y="2855160"/>
                <a:ext cx="0" cy="14184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4020840" y="2855160"/>
                <a:ext cx="0" cy="144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4021560" y="2854440"/>
                <a:ext cx="10692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477720" y="3335400"/>
            <a:ext cx="783288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Construct the propositional formu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(Context</a:t>
            </a:r>
            <a:r>
              <a:rPr b="1" lang="it-IT" sz="1000" spc="-1" strike="noStrike">
                <a:solidFill>
                  <a:srgbClr val="808080"/>
                </a:solidFill>
                <a:latin typeface="Arial"/>
              </a:rPr>
              <a:t>A</a:t>
            </a:r>
            <a:r>
              <a:rPr b="1" lang="it-IT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in Tree1 and Context</a:t>
            </a:r>
            <a:r>
              <a:rPr b="1" lang="it-IT" sz="1000" spc="-1" strike="noStrike">
                <a:solidFill>
                  <a:srgbClr val="808080"/>
                </a:solidFill>
                <a:latin typeface="Arial"/>
              </a:rPr>
              <a:t>B</a:t>
            </a:r>
            <a:r>
              <a:rPr b="1" lang="it-IT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in Tree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58D5-8FAB-4615-A297-FD3CF61B2D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358640" y="3047760"/>
            <a:ext cx="718812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lement Level Semantic Matcher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2BB7-210E-4C65-A2FA-771E1B8042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lement level Semantic Matcher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8276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tring bas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have two labels as input and produce semantic relations exploiting string comparison techniqu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ense bas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have two WordNet senses in input and produce semantic relations exploiting structural properties of WordNet hierarchi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Gloss bas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have two WordNet senses as input and produce relations exploiting gloss comparison techniqu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E226-28C3-4153-A272-EF7F5B99FE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lement level Semantic Matchers: Overview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544760" y="1573200"/>
            <a:ext cx="7535880" cy="465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0FB5-A54A-4992-92DD-401C7AB0A5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ring based matchers: Prefix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4160" y="1612800"/>
            <a:ext cx="82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ix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checks whether one input label starts with the other. It returns an equivalence relation in this case, and 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Idk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therwise</a:t>
            </a:r>
            <a:r>
              <a:rPr b="1" lang="ru-RU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s efficient in matching cognate words and similar acronyms (e.g.,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DF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DF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) but often syntactic similarity does not imply semantic relatedness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matcher returns equality for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ho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hotel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hich is wrong but it recognizes the right relations in the case of the pairs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ne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network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a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441440" y="2487600"/>
            <a:ext cx="766440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2CA8-BB4A-4E35-8A58-861C54F6CC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ring based matchers: Edit distanc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-360" y="1612800"/>
            <a:ext cx="853452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 Distance: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calculates the edit distance measure between two labels. The calculation includes counting the number of the simple editing operations i.e.,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delete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nsert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place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needed to convert one label into another. It is normalized by the max number of characters in the two label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f the value exceeds a given threshold the equivalence relation is returned, otherwise, 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Idk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produced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420920" y="4562640"/>
            <a:ext cx="7710480" cy="11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6047-9AEF-410E-8C83-DEC578202E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ense based matchers: WordNet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511280"/>
            <a:ext cx="85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Net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returns a lexical relation which holds in WordNet between two input label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Lexical relations provided by WordNet are converted to semantic relations according to the following rules: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B if A is a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yponym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ero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of B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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B if A is a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yper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olo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of B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= B if they are connected by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yno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relation or they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elong to one synse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B if they are connected by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ntonymy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relation or they are the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ibling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n the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part of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hierarchy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1390680" y="4995720"/>
            <a:ext cx="7727760" cy="13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931D-8FBF-4644-95DD-C1DBD5B5F9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8480" y="2298240"/>
            <a:ext cx="745524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The S-Match Algorithm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Element Level Semantic Matcher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clusions and Future Work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2927-0205-476D-B9B2-5362BD571E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ense based matchers: Hierarchy distanc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470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archy distance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returns the equivalence relation if the distance between two input senses in a WordNet hierarchy is less than a given threshold value and 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Idk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therwise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390680" y="2854440"/>
            <a:ext cx="7727760" cy="820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64280" y="4156200"/>
            <a:ext cx="2428920" cy="1314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800280" y="4049640"/>
            <a:ext cx="519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re is no direct relation between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pink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in WordNe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. However, the distance between these concepts is 2 (1 more general link and 1 less general). Thus, we can infer that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e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pink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re close in their meaning and return the equivalence 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FD66-C68E-4BB1-8B76-BE9392EA0E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loss based matchers: WordNet glos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Net gloss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compares the labels of the first input sense with the WordNet gloss of the second one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Hound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s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any of several breeds of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do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used for hunting typically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having large drooping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ears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Hound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s described through the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pecification of the more general concept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471680" y="2679840"/>
            <a:ext cx="7443720" cy="104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23A9-7331-42A9-AF39-EAA3B01B82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loss based matchers: Gloss comparison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5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ss comparison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The number of the same words occurring in the two input glosses increases the similarity value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he equivalence relation is returned if the resulting similarity value exceeds a given threshold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Maltese do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is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ree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of toy dogs having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lon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straight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silky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white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at</a:t>
            </a:r>
            <a:r>
              <a:rPr b="0" lang="ru-RU" sz="18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Afghan houn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is a tall graceful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ree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of hound with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lon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silky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at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; native to the Near East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382760" y="3139920"/>
            <a:ext cx="776448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4605-7FF5-48D4-A014-CBA6F683E9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Conclusions and Future Work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82400" y="1282320"/>
            <a:ext cx="7785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Library of element level semantic matcher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5400" indent="-190440">
              <a:lnSpc>
                <a:spcPct val="125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99"/>
                </a:solidFill>
                <a:latin typeface="Arial"/>
              </a:rPr>
              <a:t>The result returned by a matcher is always a semantic relation or idk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Evaluate element level semantic matcher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dentify the element level matchers better suited for particular matching tasks 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A526-5494-4BA1-A6B2-31B3C53672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193760" y="1600200"/>
            <a:ext cx="7228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23B9-BAAA-43CD-B95B-1CBEC2C429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88840" y="2971800"/>
            <a:ext cx="77472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32B1-9F3D-4A15-A36E-DB58DF254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tching 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1840" y="2673360"/>
            <a:ext cx="7303680" cy="1850760"/>
            <a:chOff x="1401840" y="2673360"/>
            <a:chExt cx="7303680" cy="1850760"/>
          </a:xfrm>
        </p:grpSpPr>
        <p:sp>
          <p:nvSpPr>
            <p:cNvPr id="115" name=""/>
            <p:cNvSpPr/>
            <p:nvPr/>
          </p:nvSpPr>
          <p:spPr>
            <a:xfrm>
              <a:off x="4628880" y="3025800"/>
              <a:ext cx="168480" cy="146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02040" y="267336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53200" y="3907800"/>
              <a:ext cx="168480" cy="146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53160" y="3905280"/>
              <a:ext cx="168480" cy="146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75600" y="4064400"/>
              <a:ext cx="322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Seman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01840" y="4042080"/>
              <a:ext cx="31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Syntac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837520" y="3170880"/>
              <a:ext cx="1805400" cy="71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73960" y="3170880"/>
              <a:ext cx="184104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441440" y="4460760"/>
            <a:ext cx="299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computed betwee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abe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 = {x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0,1]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0800" y="4459320"/>
            <a:ext cx="3333600" cy="1059840"/>
            <a:chOff x="5500800" y="4459320"/>
            <a:chExt cx="3333600" cy="1059840"/>
          </a:xfrm>
        </p:grpSpPr>
        <p:sp>
          <p:nvSpPr>
            <p:cNvPr id="125" name=""/>
            <p:cNvSpPr/>
            <p:nvPr/>
          </p:nvSpPr>
          <p:spPr>
            <a:xfrm>
              <a:off x="5500800" y="4459320"/>
              <a:ext cx="3333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8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Relations ar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mputed between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concept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 n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8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R = {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,     , 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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551640" y="5276880"/>
              <a:ext cx="108000" cy="131760"/>
              <a:chOff x="6551640" y="5276880"/>
              <a:chExt cx="108000" cy="131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551640" y="5276880"/>
                <a:ext cx="107640" cy="103680"/>
                <a:chOff x="6551640" y="5276880"/>
                <a:chExt cx="107640" cy="1036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6553800" y="5380560"/>
                  <a:ext cx="1051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551640" y="5276880"/>
                  <a:ext cx="1072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658920" y="527688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6551640" y="5408640"/>
                <a:ext cx="1080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6640" y="5278680"/>
              <a:ext cx="109440" cy="131760"/>
              <a:chOff x="6956640" y="5278680"/>
              <a:chExt cx="109440" cy="13176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6957000" y="5278680"/>
                <a:ext cx="109080" cy="103680"/>
                <a:chOff x="6957000" y="5278680"/>
                <a:chExt cx="109080" cy="103680"/>
              </a:xfrm>
            </p:grpSpPr>
            <p:sp>
              <p:nvSpPr>
                <p:cNvPr id="134" name=""/>
                <p:cNvSpPr/>
                <p:nvPr/>
              </p:nvSpPr>
              <p:spPr>
                <a:xfrm flipH="1">
                  <a:off x="6957360" y="5278680"/>
                  <a:ext cx="106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6957360" y="5382360"/>
                  <a:ext cx="1087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6957000" y="528372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 flipH="1">
                <a:off x="6956640" y="5410440"/>
                <a:ext cx="10944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627680" y="5280480"/>
              <a:ext cx="112680" cy="145800"/>
              <a:chOff x="7627680" y="5280480"/>
              <a:chExt cx="112680" cy="145800"/>
            </a:xfrm>
          </p:grpSpPr>
          <p:sp>
            <p:nvSpPr>
              <p:cNvPr id="139" name=""/>
              <p:cNvSpPr/>
              <p:nvPr/>
            </p:nvSpPr>
            <p:spPr>
              <a:xfrm flipV="1">
                <a:off x="7740360" y="5281200"/>
                <a:ext cx="0" cy="142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627680" y="5281200"/>
                <a:ext cx="0" cy="14508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628400" y="5280480"/>
                <a:ext cx="10692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1270080" y="55497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revious systems in the above sense are syntactic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522760"/>
            <a:ext cx="41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implementation CTXmatch [Bouquet 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. 20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tching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given two graph-like structures (e.g., concept hierarchies or ontologies), produce a mapping between the nodes of the graphs that semantically correspond to each other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5DB1-D173-4F9C-BBA4-BA23D357FE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35040" y="4038480"/>
            <a:ext cx="8089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ept of a Label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16160" y="1481040"/>
            <a:ext cx="5238360" cy="2115720"/>
            <a:chOff x="2216160" y="1481040"/>
            <a:chExt cx="5238360" cy="2115720"/>
          </a:xfrm>
        </p:grpSpPr>
        <p:sp>
          <p:nvSpPr>
            <p:cNvPr id="148" name=""/>
            <p:cNvSpPr/>
            <p:nvPr/>
          </p:nvSpPr>
          <p:spPr>
            <a:xfrm>
              <a:off x="4935960" y="2299320"/>
              <a:ext cx="25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Wine and Che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2216160" y="1481040"/>
              <a:ext cx="3856680" cy="2115720"/>
              <a:chOff x="2216160" y="1481040"/>
              <a:chExt cx="3856680" cy="2115720"/>
            </a:xfrm>
          </p:grpSpPr>
          <p:sp>
            <p:nvSpPr>
              <p:cNvPr id="150" name=""/>
              <p:cNvSpPr/>
              <p:nvPr/>
            </p:nvSpPr>
            <p:spPr>
              <a:xfrm>
                <a:off x="2404800" y="3197880"/>
                <a:ext cx="169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13160" y="1481040"/>
                <a:ext cx="159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2" name=""/>
              <p:cNvCxnSpPr>
                <a:stCxn id="153" idx="4"/>
                <a:endCxn id="154" idx="0"/>
              </p:cNvCxnSpPr>
              <p:nvPr/>
            </p:nvCxnSpPr>
            <p:spPr>
              <a:xfrm>
                <a:off x="3631320" y="2588040"/>
                <a:ext cx="108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56" idx="4"/>
                <a:endCxn id="153" idx="0"/>
              </p:cNvCxnSpPr>
              <p:nvPr/>
            </p:nvCxnSpPr>
            <p:spPr>
              <a:xfrm flipH="1">
                <a:off x="3631320" y="2014920"/>
                <a:ext cx="57240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7" name=""/>
              <p:cNvSpPr/>
              <p:nvPr/>
            </p:nvSpPr>
            <p:spPr>
              <a:xfrm>
                <a:off x="4533840" y="3155400"/>
                <a:ext cx="153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8" name=""/>
              <p:cNvCxnSpPr>
                <a:stCxn id="159" idx="4"/>
                <a:endCxn id="160" idx="0"/>
              </p:cNvCxnSpPr>
              <p:nvPr/>
            </p:nvCxnSpPr>
            <p:spPr>
              <a:xfrm>
                <a:off x="4829040" y="2588040"/>
                <a:ext cx="1296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1" name=""/>
              <p:cNvSpPr/>
              <p:nvPr/>
            </p:nvSpPr>
            <p:spPr>
              <a:xfrm>
                <a:off x="2216160" y="2297520"/>
                <a:ext cx="152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Pic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2" name=""/>
              <p:cNvCxnSpPr>
                <a:stCxn id="156" idx="4"/>
                <a:endCxn id="159" idx="0"/>
              </p:cNvCxnSpPr>
              <p:nvPr/>
            </p:nvCxnSpPr>
            <p:spPr>
              <a:xfrm>
                <a:off x="4203720" y="2014920"/>
                <a:ext cx="62568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6" name=""/>
              <p:cNvSpPr/>
              <p:nvPr/>
            </p:nvSpPr>
            <p:spPr>
              <a:xfrm>
                <a:off x="4088160" y="180000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17920" y="23724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14920" y="23724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17920" y="3121560"/>
                <a:ext cx="22824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25360" y="312156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444600" y="3530520"/>
            <a:ext cx="81388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71360" indent="-171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17172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484"/>
                </a:solidFill>
                <a:latin typeface="Arial"/>
              </a:rPr>
              <a:t>Labels in classification hierarchies are used to define the set of      documents one would like to classify under the node holding the lab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171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 label has an intended meaning, which is what this label means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360" y="546084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ept of a label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set of documents that are about what the label means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D2B3-C0AC-40CD-8E6A-B692796010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35040" y="4038480"/>
            <a:ext cx="8089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ept of a Nod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05280" y="3081240"/>
            <a:ext cx="5238360" cy="2115720"/>
            <a:chOff x="3905280" y="3081240"/>
            <a:chExt cx="5238360" cy="2115720"/>
          </a:xfrm>
        </p:grpSpPr>
        <p:sp>
          <p:nvSpPr>
            <p:cNvPr id="168" name=""/>
            <p:cNvSpPr/>
            <p:nvPr/>
          </p:nvSpPr>
          <p:spPr>
            <a:xfrm>
              <a:off x="6625080" y="3899520"/>
              <a:ext cx="25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Wine and Che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905280" y="3081240"/>
              <a:ext cx="3856680" cy="2115720"/>
              <a:chOff x="3905280" y="3081240"/>
              <a:chExt cx="3856680" cy="2115720"/>
            </a:xfrm>
          </p:grpSpPr>
          <p:sp>
            <p:nvSpPr>
              <p:cNvPr id="170" name=""/>
              <p:cNvSpPr/>
              <p:nvPr/>
            </p:nvSpPr>
            <p:spPr>
              <a:xfrm>
                <a:off x="4093920" y="4798080"/>
                <a:ext cx="169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102280" y="3081240"/>
                <a:ext cx="159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"/>
              <p:cNvCxnSpPr>
                <a:stCxn id="173" idx="4"/>
                <a:endCxn id="174" idx="0"/>
              </p:cNvCxnSpPr>
              <p:nvPr/>
            </p:nvCxnSpPr>
            <p:spPr>
              <a:xfrm>
                <a:off x="5320440" y="4188240"/>
                <a:ext cx="108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5" name=""/>
              <p:cNvCxnSpPr>
                <a:stCxn id="176" idx="4"/>
                <a:endCxn id="173" idx="0"/>
              </p:cNvCxnSpPr>
              <p:nvPr/>
            </p:nvCxnSpPr>
            <p:spPr>
              <a:xfrm flipH="1">
                <a:off x="5320440" y="3615120"/>
                <a:ext cx="57240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7" name=""/>
              <p:cNvSpPr/>
              <p:nvPr/>
            </p:nvSpPr>
            <p:spPr>
              <a:xfrm>
                <a:off x="6222960" y="4755600"/>
                <a:ext cx="153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8" name=""/>
              <p:cNvCxnSpPr>
                <a:stCxn id="179" idx="4"/>
                <a:endCxn id="180" idx="0"/>
              </p:cNvCxnSpPr>
              <p:nvPr/>
            </p:nvCxnSpPr>
            <p:spPr>
              <a:xfrm>
                <a:off x="6518160" y="4188240"/>
                <a:ext cx="1296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81" name=""/>
              <p:cNvSpPr/>
              <p:nvPr/>
            </p:nvSpPr>
            <p:spPr>
              <a:xfrm>
                <a:off x="3905280" y="3897720"/>
                <a:ext cx="152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Pic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2" name=""/>
              <p:cNvCxnSpPr>
                <a:stCxn id="176" idx="4"/>
                <a:endCxn id="179" idx="0"/>
              </p:cNvCxnSpPr>
              <p:nvPr/>
            </p:nvCxnSpPr>
            <p:spPr>
              <a:xfrm>
                <a:off x="5892840" y="3615120"/>
                <a:ext cx="62568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6" name=""/>
              <p:cNvSpPr/>
              <p:nvPr/>
            </p:nvSpPr>
            <p:spPr>
              <a:xfrm>
                <a:off x="5777280" y="340020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07040" y="39726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04040" y="39726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07040" y="4721760"/>
                <a:ext cx="22824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414480" y="472176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533520" y="1523880"/>
            <a:ext cx="84182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tion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semantics of a label are the real world semant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semantics of the concept of a label are in the space of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relation being that the documents in the extension of the concept of a label are about what the label means in the real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5245200"/>
            <a:ext cx="82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ept of a node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set of documents that we would classify under this node, given it has a certain label and it is positioned in a certain place in the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7960" y="3645000"/>
            <a:ext cx="3467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Trees add structure which allows us to perform the classification of documents more eff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E3FF-7373-470B-86AD-C7AE069DF9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42720" y="1498680"/>
            <a:ext cx="80895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a 4-tuple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ID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j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&gt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where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18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j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unique identifier of the given mapping element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-th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first graph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j-th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second graph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semantic relation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between the concepts at the given nodes.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7520" y="5410080"/>
            <a:ext cx="8394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: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Given two graphs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for any 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find the strongest semantic relation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R’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holding with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69800" y="3629160"/>
            <a:ext cx="7683480" cy="1694520"/>
            <a:chOff x="469800" y="3629160"/>
            <a:chExt cx="7683480" cy="1694520"/>
          </a:xfrm>
        </p:grpSpPr>
        <p:sp>
          <p:nvSpPr>
            <p:cNvPr id="190" name=""/>
            <p:cNvSpPr/>
            <p:nvPr/>
          </p:nvSpPr>
          <p:spPr>
            <a:xfrm>
              <a:off x="469800" y="3629160"/>
              <a:ext cx="76834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mputed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i="1" lang="en-GB" sz="1800" spc="-1" strike="noStrike">
                  <a:solidFill>
                    <a:srgbClr val="777777"/>
                  </a:solidFill>
                  <a:latin typeface="Arial"/>
                </a:rPr>
                <a:t>R’s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, listed in the decreasing binding strength orde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equivalence { =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ore general/specific {    ,    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ismatch { </a:t>
              </a:r>
              <a:r>
                <a:rPr b="1" lang="en-GB" sz="18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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overlapping {     }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931920" y="4438440"/>
              <a:ext cx="1533600" cy="796320"/>
              <a:chOff x="3931920" y="4438440"/>
              <a:chExt cx="1533600" cy="7963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4964040" y="4438440"/>
                <a:ext cx="108000" cy="131760"/>
                <a:chOff x="4964040" y="4438440"/>
                <a:chExt cx="108000" cy="13176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4964040" y="4438440"/>
                  <a:ext cx="107640" cy="103320"/>
                  <a:chOff x="4964040" y="4438440"/>
                  <a:chExt cx="107640" cy="1033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4966200" y="4541760"/>
                    <a:ext cx="10512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964040" y="4438440"/>
                    <a:ext cx="10728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5071320" y="4438800"/>
                    <a:ext cx="360" cy="9828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>
                  <a:off x="4964040" y="4570200"/>
                  <a:ext cx="10800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355720" y="4440240"/>
                <a:ext cx="109800" cy="131400"/>
                <a:chOff x="5355720" y="4440240"/>
                <a:chExt cx="109800" cy="13140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5356080" y="4440240"/>
                  <a:ext cx="109440" cy="103320"/>
                  <a:chOff x="5356080" y="4440240"/>
                  <a:chExt cx="109440" cy="1033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flipH="1">
                    <a:off x="5356440" y="4440240"/>
                    <a:ext cx="10692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5356440" y="4543560"/>
                    <a:ext cx="10908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356080" y="4444920"/>
                    <a:ext cx="360" cy="9828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H="1">
                  <a:off x="5355720" y="4571640"/>
                  <a:ext cx="10980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931920" y="5089320"/>
                <a:ext cx="112680" cy="145440"/>
                <a:chOff x="3931920" y="5089320"/>
                <a:chExt cx="112680" cy="14544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4044600" y="5090040"/>
                  <a:ext cx="0" cy="14184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3931920" y="5090040"/>
                  <a:ext cx="0" cy="14472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3932640" y="5089320"/>
                  <a:ext cx="106920" cy="72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1AA0-7B36-4DC4-8D19-B91121AC41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358640" y="3047760"/>
            <a:ext cx="718812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he S-Match Algorithm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7BCA-C363-443C-BD10-01E6B39533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0265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label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node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i="1" lang="it-IT" sz="20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label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relations between concepts at label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node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relations between 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1 and 2 constitute the preprocessing phase, and are executed once and each time after the tree is chang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FF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3 and 4 constitute the matching phase, and are executed every time the two trees are to be match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N 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175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our Macro Step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44600" y="176688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ven two labeled trees T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1B5C-68A2-4776-ADB0-41FBEEE68C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Pavel Shvaiko</dc:creator>
  <dc:description/>
  <dc:language>en-US</dc:language>
  <cp:lastModifiedBy>server</cp:lastModifiedBy>
  <dcterms:modified xsi:type="dcterms:W3CDTF">2004-11-07T15:39:13Z</dcterms:modified>
  <cp:revision>712</cp:revision>
  <dc:subject/>
  <dc:title>S-Match ESWS</dc:title>
</cp:coreProperties>
</file>